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631-2EBE-4BF4-84B2-75EEF09FB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B97-2337-4F92-B48E-71E5167E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808-C615-4C8D-A3BA-2844E29B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876-E6FB-45A9-A8AE-678EB2E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AA2-F6DA-48D6-80F0-2768D786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5B9-DBDD-46B0-98CB-8AEF7A2C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B3F-E600-4936-A991-75C33C0D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37D-E559-4B2E-BED3-8053D4F2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503-88C2-4768-A794-56B5422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040-CE28-4C73-9734-C2DD410B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5C3-58BE-499F-8F58-1D58B82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88C-D270-4575-A5FE-1BC8A66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086-96C9-460E-82A8-FF4CB292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128-116C-4B89-8472-CC6A6F4C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3103-E7C5-4CAD-8E2B-92164C812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ll pixel filling in global D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114800" y="716040"/>
            <a:ext cx="4937040" cy="30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6320" y="3763800"/>
            <a:ext cx="4937040" cy="3017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0" y="76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1) Fill voids w/ GMTED2010 : Delta Surface Fil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2160000">
            <a:off x="2757240" y="3805200"/>
            <a:ext cx="152280" cy="1554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2160000">
            <a:off x="7071840" y="758880"/>
            <a:ext cx="152640" cy="1554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334120" y="3733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TED2010 data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SRTM DTED 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34120" y="4459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Void filling in source datas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Documentation of void-filled pixe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447920" y="71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Delta Surface Fill Method-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4419360" cy="2909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1"/>
          <p:cNvSpPr/>
          <p:nvPr/>
        </p:nvSpPr>
        <p:spPr>
          <a:xfrm>
            <a:off x="0" y="5162400"/>
            <a:ext cx="510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hman, G., Kroenung, G., and Strebeck, J. (2006). Filling SRTM Voids: The Delta Surface Fill Method. Photogrammetric Engineering and Remote Sensing: 213-2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3733920" cy="1025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7"/>
          <p:cNvSpPr/>
          <p:nvPr/>
        </p:nvSpPr>
        <p:spPr>
          <a:xfrm>
            <a:off x="6324480" y="914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mean 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8"/>
          <p:cNvCxnSpPr/>
          <p:nvPr/>
        </p:nvCxnSpPr>
        <p:spPr>
          <a:xfrm>
            <a:off x="7314840" y="1219320"/>
            <a:ext cx="1080" cy="91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3" name="TextBox 34"/>
          <p:cNvSpPr/>
          <p:nvPr/>
        </p:nvSpPr>
        <p:spPr>
          <a:xfrm>
            <a:off x="6400800" y="251460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5086440" y="5533920"/>
            <a:ext cx="4057560" cy="1324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3"/>
          <p:cNvSpPr/>
          <p:nvPr/>
        </p:nvSpPr>
        <p:spPr>
          <a:xfrm>
            <a:off x="731520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381640" y="3733920"/>
            <a:ext cx="3762360" cy="1171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6"/>
          <p:cNvSpPr/>
          <p:nvPr/>
        </p:nvSpPr>
        <p:spPr>
          <a:xfrm>
            <a:off x="7315200" y="3048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olate othe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48"/>
          <p:cNvCxnSpPr/>
          <p:nvPr/>
        </p:nvCxnSpPr>
        <p:spPr>
          <a:xfrm>
            <a:off x="7314840" y="2971800"/>
            <a:ext cx="1080" cy="91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9" name="TextBox 49"/>
          <p:cNvSpPr/>
          <p:nvPr/>
        </p:nvSpPr>
        <p:spPr>
          <a:xfrm>
            <a:off x="7315200" y="4840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Fill Surface = Fixed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50"/>
          <p:cNvCxnSpPr/>
          <p:nvPr/>
        </p:nvCxnSpPr>
        <p:spPr>
          <a:xfrm>
            <a:off x="7314840" y="4724280"/>
            <a:ext cx="1080" cy="91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1" name="TextBox 51"/>
          <p:cNvSpPr/>
          <p:nvPr/>
        </p:nvSpPr>
        <p:spPr>
          <a:xfrm>
            <a:off x="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2"/>
          <p:cNvSpPr/>
          <p:nvPr/>
        </p:nvSpPr>
        <p:spPr>
          <a:xfrm>
            <a:off x="5867280" y="914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3"/>
          <p:cNvSpPr/>
          <p:nvPr/>
        </p:nvSpPr>
        <p:spPr>
          <a:xfrm>
            <a:off x="5867280" y="19922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4"/>
          <p:cNvSpPr/>
          <p:nvPr/>
        </p:nvSpPr>
        <p:spPr>
          <a:xfrm>
            <a:off x="5867280" y="3897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5"/>
          <p:cNvSpPr/>
          <p:nvPr/>
        </p:nvSpPr>
        <p:spPr>
          <a:xfrm>
            <a:off x="5867280" y="5649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8048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4114800" y="1600200"/>
            <a:ext cx="152388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676520" y="712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2. Interpolation Through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38"/>
          <p:cNvGrpSpPr/>
          <p:nvPr/>
        </p:nvGrpSpPr>
        <p:grpSpPr>
          <a:xfrm>
            <a:off x="914400" y="3152880"/>
            <a:ext cx="5943600" cy="838080"/>
            <a:chOff x="914400" y="3152880"/>
            <a:chExt cx="5943600" cy="838080"/>
          </a:xfrm>
        </p:grpSpPr>
        <p:grpSp>
          <p:nvGrpSpPr>
            <p:cNvPr id="80" name="Group 132"/>
            <p:cNvGrpSpPr/>
            <p:nvPr/>
          </p:nvGrpSpPr>
          <p:grpSpPr>
            <a:xfrm>
              <a:off x="990360" y="3200040"/>
              <a:ext cx="5867640" cy="790920"/>
              <a:chOff x="990360" y="3200040"/>
              <a:chExt cx="5867640" cy="790920"/>
            </a:xfrm>
          </p:grpSpPr>
          <p:sp>
            <p:nvSpPr>
              <p:cNvPr id="81" name="Freeform 133"/>
              <p:cNvSpPr/>
              <p:nvPr/>
            </p:nvSpPr>
            <p:spPr>
              <a:xfrm>
                <a:off x="1066320" y="3200040"/>
                <a:ext cx="5791680" cy="790920"/>
              </a:xfrm>
              <a:custGeom>
                <a:avLst/>
                <a:gdLst/>
                <a:ahLst/>
                <a:rect l="l" t="t" r="r" b="b"/>
                <a:pathLst>
                  <a:path w="5663381" h="1036745">
                    <a:moveTo>
                      <a:pt x="0" y="845016"/>
                    </a:moveTo>
                    <a:cubicBezTo>
                      <a:pt x="120445" y="832725"/>
                      <a:pt x="199751" y="793619"/>
                      <a:pt x="298073" y="714961"/>
                    </a:cubicBezTo>
                    <a:cubicBezTo>
                      <a:pt x="396395" y="636303"/>
                      <a:pt x="465091" y="476753"/>
                      <a:pt x="589935" y="373068"/>
                    </a:cubicBezTo>
                    <a:cubicBezTo>
                      <a:pt x="714779" y="269383"/>
                      <a:pt x="934323" y="132065"/>
                      <a:pt x="1047135" y="92848"/>
                    </a:cubicBezTo>
                    <a:cubicBezTo>
                      <a:pt x="1159947" y="53631"/>
                      <a:pt x="1121783" y="54190"/>
                      <a:pt x="1266809" y="137764"/>
                    </a:cubicBezTo>
                    <a:cubicBezTo>
                      <a:pt x="1411835" y="221338"/>
                      <a:pt x="1742509" y="567366"/>
                      <a:pt x="1917290" y="594293"/>
                    </a:cubicBezTo>
                    <a:cubicBezTo>
                      <a:pt x="2092071" y="621220"/>
                      <a:pt x="2140974" y="355861"/>
                      <a:pt x="2315497" y="299326"/>
                    </a:cubicBezTo>
                    <a:cubicBezTo>
                      <a:pt x="2490020" y="242791"/>
                      <a:pt x="2797278" y="181339"/>
                      <a:pt x="2964426" y="255081"/>
                    </a:cubicBezTo>
                    <a:cubicBezTo>
                      <a:pt x="3131574" y="328823"/>
                      <a:pt x="3129375" y="678091"/>
                      <a:pt x="3318387" y="741777"/>
                    </a:cubicBezTo>
                    <a:cubicBezTo>
                      <a:pt x="3507399" y="805463"/>
                      <a:pt x="3918802" y="704572"/>
                      <a:pt x="4098499" y="637198"/>
                    </a:cubicBezTo>
                    <a:cubicBezTo>
                      <a:pt x="4278197" y="569825"/>
                      <a:pt x="4235116" y="437423"/>
                      <a:pt x="4396572" y="337536"/>
                    </a:cubicBezTo>
                    <a:cubicBezTo>
                      <a:pt x="4558028" y="237649"/>
                      <a:pt x="4910179" y="0"/>
                      <a:pt x="5067236" y="37877"/>
                    </a:cubicBezTo>
                    <a:cubicBezTo>
                      <a:pt x="5224293" y="75754"/>
                      <a:pt x="5242017" y="400777"/>
                      <a:pt x="5338916" y="564797"/>
                    </a:cubicBezTo>
                    <a:cubicBezTo>
                      <a:pt x="5435815" y="728817"/>
                      <a:pt x="5648632" y="1021997"/>
                      <a:pt x="5648632" y="1021997"/>
                    </a:cubicBezTo>
                    <a:lnTo>
                      <a:pt x="5648632" y="1021997"/>
                    </a:lnTo>
                    <a:lnTo>
                      <a:pt x="5663381" y="1036745"/>
                    </a:lnTo>
                  </a:path>
                </a:pathLst>
              </a:custGeom>
              <a:noFill/>
              <a:ln w="936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4"/>
              <p:cNvSpPr/>
              <p:nvPr/>
            </p:nvSpPr>
            <p:spPr>
              <a:xfrm>
                <a:off x="1066320" y="3218760"/>
                <a:ext cx="5791680" cy="563760"/>
              </a:xfrm>
              <a:custGeom>
                <a:avLst/>
                <a:gdLst/>
                <a:ahLst/>
                <a:rect l="l" t="t" r="r" b="b"/>
                <a:pathLst>
                  <a:path w="5663381" h="1162834">
                    <a:moveTo>
                      <a:pt x="0" y="927392"/>
                    </a:moveTo>
                    <a:cubicBezTo>
                      <a:pt x="120445" y="915101"/>
                      <a:pt x="198715" y="1162835"/>
                      <a:pt x="298073" y="1084352"/>
                    </a:cubicBezTo>
                    <a:cubicBezTo>
                      <a:pt x="397431" y="1005869"/>
                      <a:pt x="471948" y="633825"/>
                      <a:pt x="596145" y="456494"/>
                    </a:cubicBezTo>
                    <a:cubicBezTo>
                      <a:pt x="720342" y="279163"/>
                      <a:pt x="931477" y="40733"/>
                      <a:pt x="1043254" y="20366"/>
                    </a:cubicBezTo>
                    <a:cubicBezTo>
                      <a:pt x="1155031" y="-1"/>
                      <a:pt x="1121136" y="224908"/>
                      <a:pt x="1266809" y="334292"/>
                    </a:cubicBezTo>
                    <a:cubicBezTo>
                      <a:pt x="1412482" y="443676"/>
                      <a:pt x="1743414" y="682463"/>
                      <a:pt x="1917290" y="676669"/>
                    </a:cubicBezTo>
                    <a:cubicBezTo>
                      <a:pt x="2091166" y="670875"/>
                      <a:pt x="2132824" y="362386"/>
                      <a:pt x="2310063" y="299529"/>
                    </a:cubicBezTo>
                    <a:cubicBezTo>
                      <a:pt x="2487303" y="236672"/>
                      <a:pt x="2812673" y="212092"/>
                      <a:pt x="2980727" y="299529"/>
                    </a:cubicBezTo>
                    <a:cubicBezTo>
                      <a:pt x="3148781" y="386966"/>
                      <a:pt x="3144511" y="713716"/>
                      <a:pt x="3318387" y="824153"/>
                    </a:cubicBezTo>
                    <a:cubicBezTo>
                      <a:pt x="3492263" y="934590"/>
                      <a:pt x="3831864" y="997268"/>
                      <a:pt x="4023981" y="962152"/>
                    </a:cubicBezTo>
                    <a:cubicBezTo>
                      <a:pt x="4248974" y="936269"/>
                      <a:pt x="4298637" y="766736"/>
                      <a:pt x="4471090" y="613459"/>
                    </a:cubicBezTo>
                    <a:cubicBezTo>
                      <a:pt x="4643543" y="460182"/>
                      <a:pt x="4914060" y="36870"/>
                      <a:pt x="5058697" y="42489"/>
                    </a:cubicBezTo>
                    <a:cubicBezTo>
                      <a:pt x="5203334" y="48108"/>
                      <a:pt x="5240593" y="470192"/>
                      <a:pt x="5338916" y="647173"/>
                    </a:cubicBezTo>
                    <a:cubicBezTo>
                      <a:pt x="5437239" y="824154"/>
                      <a:pt x="5648632" y="1104373"/>
                      <a:pt x="5648632" y="1104373"/>
                    </a:cubicBezTo>
                    <a:lnTo>
                      <a:pt x="5648632" y="1104373"/>
                    </a:lnTo>
                    <a:lnTo>
                      <a:pt x="5663381" y="111912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5"/>
              <p:cNvSpPr/>
              <p:nvPr/>
            </p:nvSpPr>
            <p:spPr>
              <a:xfrm>
                <a:off x="990360" y="3215880"/>
                <a:ext cx="5867640" cy="541800"/>
              </a:xfrm>
              <a:custGeom>
                <a:avLst/>
                <a:gdLst/>
                <a:ahLst/>
                <a:rect l="l" t="t" r="r" b="b"/>
                <a:pathLst>
                  <a:path w="5737899" h="1954155">
                    <a:moveTo>
                      <a:pt x="0" y="1084307"/>
                    </a:moveTo>
                    <a:cubicBezTo>
                      <a:pt x="120445" y="1072016"/>
                      <a:pt x="248394" y="1954155"/>
                      <a:pt x="372591" y="1908374"/>
                    </a:cubicBezTo>
                    <a:cubicBezTo>
                      <a:pt x="496788" y="1862593"/>
                      <a:pt x="620985" y="1119948"/>
                      <a:pt x="745182" y="809618"/>
                    </a:cubicBezTo>
                    <a:cubicBezTo>
                      <a:pt x="869379" y="499288"/>
                      <a:pt x="1018415" y="82036"/>
                      <a:pt x="1117772" y="46394"/>
                    </a:cubicBezTo>
                    <a:cubicBezTo>
                      <a:pt x="1217129" y="10752"/>
                      <a:pt x="1204710" y="412640"/>
                      <a:pt x="1341327" y="595765"/>
                    </a:cubicBezTo>
                    <a:cubicBezTo>
                      <a:pt x="1477944" y="778890"/>
                      <a:pt x="1763596" y="1201063"/>
                      <a:pt x="1937472" y="1145142"/>
                    </a:cubicBezTo>
                    <a:cubicBezTo>
                      <a:pt x="2111348" y="1089221"/>
                      <a:pt x="2210705" y="407724"/>
                      <a:pt x="2384581" y="260241"/>
                    </a:cubicBezTo>
                    <a:cubicBezTo>
                      <a:pt x="2558457" y="112758"/>
                      <a:pt x="2794432" y="122897"/>
                      <a:pt x="2980727" y="260241"/>
                    </a:cubicBezTo>
                    <a:cubicBezTo>
                      <a:pt x="3167022" y="397585"/>
                      <a:pt x="3303639" y="845261"/>
                      <a:pt x="3502354" y="1084307"/>
                    </a:cubicBezTo>
                    <a:cubicBezTo>
                      <a:pt x="3701069" y="1323354"/>
                      <a:pt x="3999141" y="1694520"/>
                      <a:pt x="4173017" y="1694520"/>
                    </a:cubicBezTo>
                    <a:cubicBezTo>
                      <a:pt x="4342510" y="1492544"/>
                      <a:pt x="4385575" y="1355307"/>
                      <a:pt x="4545608" y="1084307"/>
                    </a:cubicBezTo>
                    <a:cubicBezTo>
                      <a:pt x="4705641" y="813307"/>
                      <a:pt x="4988577" y="137035"/>
                      <a:pt x="5133215" y="68517"/>
                    </a:cubicBezTo>
                    <a:cubicBezTo>
                      <a:pt x="5277853" y="-1"/>
                      <a:pt x="5315111" y="496220"/>
                      <a:pt x="5413434" y="673201"/>
                    </a:cubicBezTo>
                    <a:cubicBezTo>
                      <a:pt x="5511757" y="850182"/>
                      <a:pt x="5723150" y="1130401"/>
                      <a:pt x="5723150" y="1130401"/>
                    </a:cubicBezTo>
                    <a:lnTo>
                      <a:pt x="5723150" y="1130401"/>
                    </a:lnTo>
                    <a:lnTo>
                      <a:pt x="5737899" y="1145149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136"/>
            <p:cNvSpPr/>
            <p:nvPr/>
          </p:nvSpPr>
          <p:spPr>
            <a:xfrm>
              <a:off x="5334120" y="3152880"/>
              <a:ext cx="15238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37"/>
            <p:cNvSpPr/>
            <p:nvPr/>
          </p:nvSpPr>
          <p:spPr>
            <a:xfrm>
              <a:off x="914400" y="3152880"/>
              <a:ext cx="17524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31"/>
          <p:cNvSpPr/>
          <p:nvPr/>
        </p:nvSpPr>
        <p:spPr>
          <a:xfrm>
            <a:off x="1219320" y="71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Interpolation Through Spline-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7"/>
          <p:cNvSpPr/>
          <p:nvPr/>
        </p:nvSpPr>
        <p:spPr>
          <a:xfrm>
            <a:off x="4724280" y="33051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nsion=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8"/>
          <p:cNvSpPr/>
          <p:nvPr/>
        </p:nvSpPr>
        <p:spPr>
          <a:xfrm>
            <a:off x="5257800" y="35337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Tension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4724280" y="3762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Arial"/>
              </a:rPr>
              <a:t>Tension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8"/>
          <p:cNvGrpSpPr/>
          <p:nvPr/>
        </p:nvGrpSpPr>
        <p:grpSpPr>
          <a:xfrm>
            <a:off x="1066680" y="1219320"/>
            <a:ext cx="5791320" cy="1388880"/>
            <a:chOff x="1066680" y="1219320"/>
            <a:chExt cx="5791320" cy="1388880"/>
          </a:xfrm>
        </p:grpSpPr>
        <p:sp>
          <p:nvSpPr>
            <p:cNvPr id="91" name="Freeform 80"/>
            <p:cNvSpPr/>
            <p:nvPr/>
          </p:nvSpPr>
          <p:spPr>
            <a:xfrm>
              <a:off x="1066680" y="1219320"/>
              <a:ext cx="5791320" cy="1388880"/>
            </a:xfrm>
            <a:custGeom>
              <a:avLst/>
              <a:gdLst/>
              <a:ahLst/>
              <a:rect l="l" t="t" r="r" b="b"/>
              <a:pathLst>
                <a:path w="5663381" h="1020991">
                  <a:moveTo>
                    <a:pt x="0" y="829262"/>
                  </a:moveTo>
                  <a:cubicBezTo>
                    <a:pt x="120445" y="816971"/>
                    <a:pt x="199751" y="777865"/>
                    <a:pt x="298073" y="699207"/>
                  </a:cubicBezTo>
                  <a:cubicBezTo>
                    <a:pt x="396395" y="620549"/>
                    <a:pt x="465091" y="460999"/>
                    <a:pt x="589935" y="357314"/>
                  </a:cubicBezTo>
                  <a:cubicBezTo>
                    <a:pt x="714779" y="253629"/>
                    <a:pt x="936522" y="84468"/>
                    <a:pt x="1047135" y="77094"/>
                  </a:cubicBezTo>
                  <a:cubicBezTo>
                    <a:pt x="1157748" y="69720"/>
                    <a:pt x="1108587" y="229494"/>
                    <a:pt x="1253613" y="313068"/>
                  </a:cubicBezTo>
                  <a:cubicBezTo>
                    <a:pt x="1398639" y="396642"/>
                    <a:pt x="1740309" y="583455"/>
                    <a:pt x="1917290" y="578539"/>
                  </a:cubicBezTo>
                  <a:cubicBezTo>
                    <a:pt x="2094271" y="573623"/>
                    <a:pt x="2140974" y="340107"/>
                    <a:pt x="2315497" y="283572"/>
                  </a:cubicBezTo>
                  <a:cubicBezTo>
                    <a:pt x="2490020" y="227037"/>
                    <a:pt x="2797278" y="165585"/>
                    <a:pt x="2964426" y="239327"/>
                  </a:cubicBezTo>
                  <a:cubicBezTo>
                    <a:pt x="3131574" y="313069"/>
                    <a:pt x="3134032" y="612952"/>
                    <a:pt x="3318387" y="726023"/>
                  </a:cubicBezTo>
                  <a:cubicBezTo>
                    <a:pt x="3502742" y="839094"/>
                    <a:pt x="3873910" y="969371"/>
                    <a:pt x="4070555" y="917752"/>
                  </a:cubicBezTo>
                  <a:cubicBezTo>
                    <a:pt x="4267200" y="866133"/>
                    <a:pt x="4332145" y="565578"/>
                    <a:pt x="4498258" y="416307"/>
                  </a:cubicBezTo>
                  <a:cubicBezTo>
                    <a:pt x="4664371" y="267036"/>
                    <a:pt x="4927126" y="0"/>
                    <a:pt x="5067236" y="22123"/>
                  </a:cubicBezTo>
                  <a:cubicBezTo>
                    <a:pt x="5207346" y="44246"/>
                    <a:pt x="5242017" y="385023"/>
                    <a:pt x="5338916" y="549043"/>
                  </a:cubicBezTo>
                  <a:cubicBezTo>
                    <a:pt x="5435815" y="713063"/>
                    <a:pt x="5648632" y="1006243"/>
                    <a:pt x="5648632" y="1006243"/>
                  </a:cubicBezTo>
                  <a:lnTo>
                    <a:pt x="5648632" y="1006243"/>
                  </a:lnTo>
                  <a:lnTo>
                    <a:pt x="5663381" y="10209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6"/>
            <p:cNvSpPr/>
            <p:nvPr/>
          </p:nvSpPr>
          <p:spPr>
            <a:xfrm>
              <a:off x="2133360" y="12952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49"/>
            <p:cNvSpPr/>
            <p:nvPr/>
          </p:nvSpPr>
          <p:spPr>
            <a:xfrm>
              <a:off x="6218280" y="12193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0"/>
            <p:cNvSpPr/>
            <p:nvPr/>
          </p:nvSpPr>
          <p:spPr>
            <a:xfrm>
              <a:off x="2414520" y="167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1"/>
            <p:cNvSpPr/>
            <p:nvPr/>
          </p:nvSpPr>
          <p:spPr>
            <a:xfrm>
              <a:off x="5867640" y="144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2"/>
            <p:cNvSpPr/>
            <p:nvPr/>
          </p:nvSpPr>
          <p:spPr>
            <a:xfrm>
              <a:off x="1765080" y="15238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>
              <a:off x="2666880" y="1447920"/>
              <a:ext cx="2666880" cy="1143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1"/>
            <p:cNvSpPr/>
            <p:nvPr/>
          </p:nvSpPr>
          <p:spPr>
            <a:xfrm>
              <a:off x="1523880" y="182880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82"/>
            <p:cNvSpPr/>
            <p:nvPr/>
          </p:nvSpPr>
          <p:spPr>
            <a:xfrm>
              <a:off x="6370920" y="15238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3"/>
            <p:cNvSpPr/>
            <p:nvPr/>
          </p:nvSpPr>
          <p:spPr>
            <a:xfrm>
              <a:off x="6553440" y="2057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4"/>
            <p:cNvSpPr/>
            <p:nvPr/>
          </p:nvSpPr>
          <p:spPr>
            <a:xfrm>
              <a:off x="6782040" y="251460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85"/>
            <p:cNvSpPr/>
            <p:nvPr/>
          </p:nvSpPr>
          <p:spPr>
            <a:xfrm>
              <a:off x="5639040" y="17524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86"/>
            <p:cNvSpPr/>
            <p:nvPr/>
          </p:nvSpPr>
          <p:spPr>
            <a:xfrm>
              <a:off x="5410080" y="21337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7"/>
            <p:cNvSpPr/>
            <p:nvPr/>
          </p:nvSpPr>
          <p:spPr>
            <a:xfrm>
              <a:off x="1218960" y="221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1"/>
          <p:cNvGrpSpPr/>
          <p:nvPr/>
        </p:nvGrpSpPr>
        <p:grpSpPr>
          <a:xfrm>
            <a:off x="990720" y="5410080"/>
            <a:ext cx="5867280" cy="790560"/>
            <a:chOff x="990720" y="5410080"/>
            <a:chExt cx="5867280" cy="790560"/>
          </a:xfrm>
        </p:grpSpPr>
        <p:sp>
          <p:nvSpPr>
            <p:cNvPr id="106" name="Freeform 93"/>
            <p:cNvSpPr/>
            <p:nvPr/>
          </p:nvSpPr>
          <p:spPr>
            <a:xfrm>
              <a:off x="1066680" y="5410080"/>
              <a:ext cx="5791320" cy="790560"/>
            </a:xfrm>
            <a:custGeom>
              <a:avLst/>
              <a:gdLst/>
              <a:ahLst/>
              <a:rect l="l" t="t" r="r" b="b"/>
              <a:pathLst>
                <a:path w="5663381" h="1036745">
                  <a:moveTo>
                    <a:pt x="0" y="845016"/>
                  </a:moveTo>
                  <a:cubicBezTo>
                    <a:pt x="120445" y="832725"/>
                    <a:pt x="199751" y="793619"/>
                    <a:pt x="298073" y="714961"/>
                  </a:cubicBezTo>
                  <a:cubicBezTo>
                    <a:pt x="396395" y="636303"/>
                    <a:pt x="465091" y="476753"/>
                    <a:pt x="589935" y="373068"/>
                  </a:cubicBezTo>
                  <a:cubicBezTo>
                    <a:pt x="714779" y="269383"/>
                    <a:pt x="934323" y="132065"/>
                    <a:pt x="1047135" y="92848"/>
                  </a:cubicBezTo>
                  <a:cubicBezTo>
                    <a:pt x="1159947" y="53631"/>
                    <a:pt x="1121783" y="54190"/>
                    <a:pt x="1266809" y="137764"/>
                  </a:cubicBezTo>
                  <a:cubicBezTo>
                    <a:pt x="1411835" y="221338"/>
                    <a:pt x="1742509" y="567366"/>
                    <a:pt x="1917290" y="594293"/>
                  </a:cubicBezTo>
                  <a:cubicBezTo>
                    <a:pt x="2092071" y="621220"/>
                    <a:pt x="2140974" y="355861"/>
                    <a:pt x="2315497" y="299326"/>
                  </a:cubicBezTo>
                  <a:cubicBezTo>
                    <a:pt x="2490020" y="242791"/>
                    <a:pt x="2797278" y="181339"/>
                    <a:pt x="2964426" y="255081"/>
                  </a:cubicBezTo>
                  <a:cubicBezTo>
                    <a:pt x="3131574" y="328823"/>
                    <a:pt x="3129375" y="678091"/>
                    <a:pt x="3318387" y="741777"/>
                  </a:cubicBezTo>
                  <a:cubicBezTo>
                    <a:pt x="3507399" y="805463"/>
                    <a:pt x="3918802" y="704572"/>
                    <a:pt x="4098499" y="637198"/>
                  </a:cubicBezTo>
                  <a:cubicBezTo>
                    <a:pt x="4278197" y="569825"/>
                    <a:pt x="4235116" y="437423"/>
                    <a:pt x="4396572" y="337536"/>
                  </a:cubicBezTo>
                  <a:cubicBezTo>
                    <a:pt x="4558028" y="237649"/>
                    <a:pt x="4910179" y="0"/>
                    <a:pt x="5067236" y="37877"/>
                  </a:cubicBezTo>
                  <a:cubicBezTo>
                    <a:pt x="5224293" y="75754"/>
                    <a:pt x="5242017" y="400777"/>
                    <a:pt x="5338916" y="564797"/>
                  </a:cubicBezTo>
                  <a:cubicBezTo>
                    <a:pt x="5435815" y="728817"/>
                    <a:pt x="5648632" y="1021997"/>
                    <a:pt x="5648632" y="1021997"/>
                  </a:cubicBezTo>
                  <a:lnTo>
                    <a:pt x="5648632" y="1021997"/>
                  </a:lnTo>
                  <a:lnTo>
                    <a:pt x="5663381" y="1036745"/>
                  </a:ln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4"/>
            <p:cNvSpPr/>
            <p:nvPr/>
          </p:nvSpPr>
          <p:spPr>
            <a:xfrm>
              <a:off x="1066680" y="5428800"/>
              <a:ext cx="5791320" cy="563760"/>
            </a:xfrm>
            <a:custGeom>
              <a:avLst/>
              <a:gdLst/>
              <a:ahLst/>
              <a:rect l="l" t="t" r="r" b="b"/>
              <a:pathLst>
                <a:path w="5663381" h="1162834">
                  <a:moveTo>
                    <a:pt x="0" y="927392"/>
                  </a:moveTo>
                  <a:cubicBezTo>
                    <a:pt x="120445" y="915101"/>
                    <a:pt x="198715" y="1162835"/>
                    <a:pt x="298073" y="1084352"/>
                  </a:cubicBezTo>
                  <a:cubicBezTo>
                    <a:pt x="397431" y="1005869"/>
                    <a:pt x="471948" y="633825"/>
                    <a:pt x="596145" y="456494"/>
                  </a:cubicBezTo>
                  <a:cubicBezTo>
                    <a:pt x="720342" y="279163"/>
                    <a:pt x="931477" y="40733"/>
                    <a:pt x="1043254" y="20366"/>
                  </a:cubicBezTo>
                  <a:cubicBezTo>
                    <a:pt x="1155031" y="-1"/>
                    <a:pt x="1121136" y="224908"/>
                    <a:pt x="1266809" y="334292"/>
                  </a:cubicBezTo>
                  <a:cubicBezTo>
                    <a:pt x="1412482" y="443676"/>
                    <a:pt x="1743414" y="682463"/>
                    <a:pt x="1917290" y="676669"/>
                  </a:cubicBezTo>
                  <a:cubicBezTo>
                    <a:pt x="2091166" y="670875"/>
                    <a:pt x="2132824" y="362386"/>
                    <a:pt x="2310063" y="299529"/>
                  </a:cubicBezTo>
                  <a:cubicBezTo>
                    <a:pt x="2487303" y="236672"/>
                    <a:pt x="2812673" y="212092"/>
                    <a:pt x="2980727" y="299529"/>
                  </a:cubicBezTo>
                  <a:cubicBezTo>
                    <a:pt x="3148781" y="386966"/>
                    <a:pt x="3144511" y="713716"/>
                    <a:pt x="3318387" y="824153"/>
                  </a:cubicBezTo>
                  <a:cubicBezTo>
                    <a:pt x="3492263" y="934590"/>
                    <a:pt x="3831864" y="997268"/>
                    <a:pt x="4023981" y="962152"/>
                  </a:cubicBezTo>
                  <a:cubicBezTo>
                    <a:pt x="4248974" y="936269"/>
                    <a:pt x="4298637" y="766736"/>
                    <a:pt x="4471090" y="613459"/>
                  </a:cubicBezTo>
                  <a:cubicBezTo>
                    <a:pt x="4643543" y="460182"/>
                    <a:pt x="4914060" y="36870"/>
                    <a:pt x="5058697" y="42489"/>
                  </a:cubicBezTo>
                  <a:cubicBezTo>
                    <a:pt x="5203334" y="48108"/>
                    <a:pt x="5240593" y="470192"/>
                    <a:pt x="5338916" y="647173"/>
                  </a:cubicBezTo>
                  <a:cubicBezTo>
                    <a:pt x="5437239" y="824154"/>
                    <a:pt x="5648632" y="1104373"/>
                    <a:pt x="5648632" y="1104373"/>
                  </a:cubicBezTo>
                  <a:lnTo>
                    <a:pt x="5648632" y="1104373"/>
                  </a:lnTo>
                  <a:lnTo>
                    <a:pt x="5663381" y="1119121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5"/>
            <p:cNvSpPr/>
            <p:nvPr/>
          </p:nvSpPr>
          <p:spPr>
            <a:xfrm>
              <a:off x="990720" y="5425920"/>
              <a:ext cx="5867280" cy="541440"/>
            </a:xfrm>
            <a:custGeom>
              <a:avLst/>
              <a:gdLst/>
              <a:ahLst/>
              <a:rect l="l" t="t" r="r" b="b"/>
              <a:pathLst>
                <a:path w="5737899" h="1954155">
                  <a:moveTo>
                    <a:pt x="0" y="1084307"/>
                  </a:moveTo>
                  <a:cubicBezTo>
                    <a:pt x="120445" y="1072016"/>
                    <a:pt x="248394" y="1954155"/>
                    <a:pt x="372591" y="1908374"/>
                  </a:cubicBezTo>
                  <a:cubicBezTo>
                    <a:pt x="496788" y="1862593"/>
                    <a:pt x="620985" y="1119948"/>
                    <a:pt x="745182" y="809618"/>
                  </a:cubicBezTo>
                  <a:cubicBezTo>
                    <a:pt x="869379" y="499288"/>
                    <a:pt x="1018415" y="82036"/>
                    <a:pt x="1117772" y="46394"/>
                  </a:cubicBezTo>
                  <a:cubicBezTo>
                    <a:pt x="1217129" y="10752"/>
                    <a:pt x="1204710" y="412640"/>
                    <a:pt x="1341327" y="595765"/>
                  </a:cubicBezTo>
                  <a:cubicBezTo>
                    <a:pt x="1477944" y="778890"/>
                    <a:pt x="1763596" y="1201063"/>
                    <a:pt x="1937472" y="1145142"/>
                  </a:cubicBezTo>
                  <a:cubicBezTo>
                    <a:pt x="2111348" y="1089221"/>
                    <a:pt x="2210705" y="407724"/>
                    <a:pt x="2384581" y="260241"/>
                  </a:cubicBezTo>
                  <a:cubicBezTo>
                    <a:pt x="2558457" y="112758"/>
                    <a:pt x="2794432" y="122897"/>
                    <a:pt x="2980727" y="260241"/>
                  </a:cubicBezTo>
                  <a:cubicBezTo>
                    <a:pt x="3167022" y="397585"/>
                    <a:pt x="3303639" y="845261"/>
                    <a:pt x="3502354" y="1084307"/>
                  </a:cubicBezTo>
                  <a:cubicBezTo>
                    <a:pt x="3701069" y="1323354"/>
                    <a:pt x="3999141" y="1694520"/>
                    <a:pt x="4173017" y="1694520"/>
                  </a:cubicBezTo>
                  <a:cubicBezTo>
                    <a:pt x="4342510" y="1492544"/>
                    <a:pt x="4385575" y="1355307"/>
                    <a:pt x="4545608" y="1084307"/>
                  </a:cubicBezTo>
                  <a:cubicBezTo>
                    <a:pt x="4705641" y="813307"/>
                    <a:pt x="4988577" y="137035"/>
                    <a:pt x="5133215" y="68517"/>
                  </a:cubicBezTo>
                  <a:cubicBezTo>
                    <a:pt x="5277853" y="-1"/>
                    <a:pt x="5315111" y="496220"/>
                    <a:pt x="5413434" y="673201"/>
                  </a:cubicBezTo>
                  <a:cubicBezTo>
                    <a:pt x="5511757" y="850182"/>
                    <a:pt x="5723150" y="1130401"/>
                    <a:pt x="5723150" y="1130401"/>
                  </a:cubicBezTo>
                  <a:lnTo>
                    <a:pt x="5723150" y="1130401"/>
                  </a:lnTo>
                  <a:lnTo>
                    <a:pt x="5737899" y="114514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96"/>
          <p:cNvSpPr/>
          <p:nvPr/>
        </p:nvSpPr>
        <p:spPr>
          <a:xfrm>
            <a:off x="2133720" y="542124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7"/>
          <p:cNvSpPr/>
          <p:nvPr/>
        </p:nvSpPr>
        <p:spPr>
          <a:xfrm>
            <a:off x="6248520" y="542124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8"/>
          <p:cNvSpPr/>
          <p:nvPr/>
        </p:nvSpPr>
        <p:spPr>
          <a:xfrm>
            <a:off x="2286000" y="557388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9"/>
          <p:cNvSpPr/>
          <p:nvPr/>
        </p:nvSpPr>
        <p:spPr>
          <a:xfrm>
            <a:off x="5867280" y="557388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0"/>
          <p:cNvSpPr/>
          <p:nvPr/>
        </p:nvSpPr>
        <p:spPr>
          <a:xfrm>
            <a:off x="1295280" y="5954760"/>
            <a:ext cx="7632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1"/>
          <p:cNvSpPr/>
          <p:nvPr/>
        </p:nvSpPr>
        <p:spPr>
          <a:xfrm>
            <a:off x="914400" y="5362560"/>
            <a:ext cx="17524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2"/>
          <p:cNvSpPr/>
          <p:nvPr/>
        </p:nvSpPr>
        <p:spPr>
          <a:xfrm>
            <a:off x="5334120" y="5362560"/>
            <a:ext cx="17524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5313240" y="4753080"/>
            <a:ext cx="1524240" cy="146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3" descr=""/>
          <p:cNvPicPr/>
          <p:nvPr/>
        </p:nvPicPr>
        <p:blipFill>
          <a:blip r:embed="rId2"/>
          <a:stretch/>
        </p:blipFill>
        <p:spPr>
          <a:xfrm>
            <a:off x="1162080" y="5133960"/>
            <a:ext cx="1523880" cy="1266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9"/>
          <p:cNvSpPr/>
          <p:nvPr/>
        </p:nvSpPr>
        <p:spPr>
          <a:xfrm>
            <a:off x="6934320" y="1752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 with 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0"/>
          <p:cNvSpPr/>
          <p:nvPr/>
        </p:nvSpPr>
        <p:spPr>
          <a:xfrm>
            <a:off x="6477120" y="33926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y at 3 tension lev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1"/>
          <p:cNvSpPr/>
          <p:nvPr/>
        </p:nvSpPr>
        <p:spPr>
          <a:xfrm>
            <a:off x="6934320" y="552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 with fi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4"/>
          <p:cNvSpPr/>
          <p:nvPr/>
        </p:nvSpPr>
        <p:spPr>
          <a:xfrm>
            <a:off x="2971800" y="64119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ta Surface Fill using GMTED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1981080" y="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Results- Delta Surfac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"/>
          <p:cNvPicPr/>
          <p:nvPr/>
        </p:nvPicPr>
        <p:blipFill>
          <a:blip r:embed="rId1"/>
          <a:stretch/>
        </p:blipFill>
        <p:spPr>
          <a:xfrm>
            <a:off x="4680" y="990720"/>
            <a:ext cx="3043440" cy="4038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538200" y="5040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line: Tension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919080" y="3429000"/>
            <a:ext cx="4572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 rot="1860000">
            <a:off x="2212560" y="1039680"/>
            <a:ext cx="365040" cy="169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049560" y="2438280"/>
            <a:ext cx="3046320" cy="4041720"/>
          </a:xfrm>
          <a:prstGeom prst="rect">
            <a:avLst/>
          </a:prstGeom>
          <a:ln w="0">
            <a:noFill/>
          </a:ln>
        </p:spPr>
      </p:pic>
      <p:sp>
        <p:nvSpPr>
          <p:cNvPr id="128" name="Oval 8"/>
          <p:cNvSpPr/>
          <p:nvPr/>
        </p:nvSpPr>
        <p:spPr>
          <a:xfrm rot="1860000">
            <a:off x="5287680" y="2521080"/>
            <a:ext cx="365040" cy="169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962520" y="4876920"/>
            <a:ext cx="4572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581280" y="6488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line: Tension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6097680" y="990720"/>
            <a:ext cx="3046320" cy="4041720"/>
          </a:xfrm>
          <a:prstGeom prst="rect">
            <a:avLst/>
          </a:prstGeom>
          <a:ln w="0">
            <a:noFill/>
          </a:ln>
        </p:spPr>
      </p:pic>
      <p:sp>
        <p:nvSpPr>
          <p:cNvPr id="132" name="Oval 12"/>
          <p:cNvSpPr/>
          <p:nvPr/>
        </p:nvSpPr>
        <p:spPr>
          <a:xfrm rot="1860000">
            <a:off x="8367480" y="1073160"/>
            <a:ext cx="365040" cy="169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7010280" y="3429000"/>
            <a:ext cx="4572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705720" y="5040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line: Tension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609588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est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1981080" y="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Results- Spline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373392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C:\Users\Natalie\Desktop\RA_Work\NCEAS\GlobalDEM_Smooth&amp;NullFill\CompareSplineFills1.png"/>
          <p:cNvPicPr/>
          <p:nvPr/>
        </p:nvPicPr>
        <p:blipFill>
          <a:blip r:embed="rId1"/>
          <a:srcRect l="3332" t="0" r="1611" b="0"/>
          <a:stretch/>
        </p:blipFill>
        <p:spPr>
          <a:xfrm>
            <a:off x="0" y="1555920"/>
            <a:ext cx="9144000" cy="469260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7"/>
          <p:cNvCxnSpPr/>
          <p:nvPr/>
        </p:nvCxnSpPr>
        <p:spPr>
          <a:xfrm flipV="1">
            <a:off x="4343040" y="2971080"/>
            <a:ext cx="1080" cy="686520"/>
          </a:xfrm>
          <a:prstGeom prst="straightConnector1">
            <a:avLst/>
          </a:prstGeom>
          <a:ln w="25560">
            <a:solidFill>
              <a:srgbClr val="009900"/>
            </a:solidFill>
            <a:miter/>
            <a:tailEnd len="med" type="arrow" w="med"/>
          </a:ln>
        </p:spPr>
      </p:cxnSp>
      <p:sp>
        <p:nvSpPr>
          <p:cNvPr id="140" name="TextBox 9"/>
          <p:cNvSpPr/>
          <p:nvPr/>
        </p:nvSpPr>
        <p:spPr>
          <a:xfrm>
            <a:off x="320040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Best tension level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3124080" y="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What’s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0" y="380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rying various tension settings until a good on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ary smoothing parameter too? (Automatically set at 0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un Delta Surface Fill method (may need to build out script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GR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Consider other interpolation metho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Compare DSF with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Run John’ Gallant’s multiscale smoothing method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void-filled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4:03:29Z</dcterms:created>
  <dc:creator>Natalie Robinson</dc:creator>
  <dc:description/>
  <dc:language>en-US</dc:language>
  <cp:lastModifiedBy>Natalie Robinson</cp:lastModifiedBy>
  <dcterms:modified xsi:type="dcterms:W3CDTF">2012-05-25T16:53:33Z</dcterms:modified>
  <cp:revision>12</cp:revision>
  <dc:subject/>
  <dc:title>Null pixel filling in global DEM: Comparison of methods</dc:title>
</cp:coreProperties>
</file>